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3F6-13FD-419B-969F-821718D4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973-0F47-457E-8C28-C1F3C1C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0FF-4BCB-4BE2-93AA-289BBCCA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231-A87F-4C8D-B147-0F0F33CD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166-C685-4F41-956E-4015AD38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1F8-843C-40BF-83C2-43CEA4AF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C7C-88FF-4CE1-AEA2-5CE48EC6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8F0-BC1A-4C06-97C3-72B12C4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DF4-E37E-49BE-9045-4A56F5F9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0FB-D7D2-4277-8C6A-E452116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68E-B6CD-4F64-96F6-CD7BAD5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13C-E70A-42CA-8EA4-57A605E9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B380-1DF2-4687-B236-3762EC2A7D8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акултет 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едицинск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х нау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у Крагујевцу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изиолог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5000" y="548640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ВЕЖБА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04920" y="26920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ункционална испитивања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централног нерв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7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371240" y="1218960"/>
            <a:ext cx="6326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да се сила дисторзије отклони са телашца одвија се обрнути догађај. Тако поремећај централног влакна у сржи телашца обавештава о престанку компрес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http://www.ucalgary.ca/pip369/files/pip369/RA%20firing%20patterns.JPG"/>
          <p:cNvPicPr/>
          <p:nvPr/>
        </p:nvPicPr>
        <p:blipFill>
          <a:blip r:embed="rId1"/>
          <a:stretch/>
        </p:blipFill>
        <p:spPr>
          <a:xfrm>
            <a:off x="1676520" y="3048120"/>
            <a:ext cx="569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143000" y="19807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2. Спорији механизам адаптације настаје процесом названим </a:t>
            </a:r>
            <a:r>
              <a:rPr b="1" lang="sr-CS" sz="2000" spc="-1" strike="noStrike">
                <a:solidFill>
                  <a:srgbClr val="ffff66"/>
                </a:solidFill>
                <a:latin typeface="Arial"/>
              </a:rPr>
              <a:t>акомодациј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, који се одвија у самом нервном влак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ретпоставља се да долази до </a:t>
            </a:r>
            <a:r>
              <a:rPr b="0" i="1" lang="sr-CS" sz="2000" spc="-1" strike="noStrike">
                <a:solidFill>
                  <a:srgbClr val="ffff66"/>
                </a:solidFill>
                <a:latin typeface="Arial"/>
              </a:rPr>
              <a:t>инактивације</a:t>
            </a:r>
            <a:r>
              <a:rPr b="0" i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ffff66"/>
                </a:solidFill>
                <a:latin typeface="Arial"/>
              </a:rPr>
              <a:t>канала за натрију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, што значи да сам ток струје кроз канале на неки начин узрокује да се они постепено затварај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90676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ункција рецептора који се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поро адаптирају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континуирано деловање дражи истог интензитета – </a:t>
            </a:r>
            <a:br>
              <a:rPr sz="2400"/>
            </a:b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ТОНИЧ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РЕЦЕПТОР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цептори који се споро адаптирају трајно преносе импулсе до мозга све док драж постоји (или бар у току неколико минута или сати). Они заправо константно информишу мозак о телесном стању и његовом односу према околин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а пример, импулси из мишићних вретена и Голџијевог тетивног апарата омогућавају централном нервном систему да у сваком моменту зна стање мишићне контракције, односно оптерећења мишићних тетив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руги типови рецептора који се споро адаптирају су: рецептори макуле вестибуларног апарата, рецептори за бол, хеморецептори каротидних и аортних тела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-3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хваљујући спорој адаптацији они могу непрекидно да преносе информацију више сати и зато се зов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ничким рецепто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даптираће се до гаше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амо уколико интензитет дражи која делује остане апсолутно константа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ек за неколико сати или д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https://classconnection.s3.amazonaws.com/1527/flashcards/688632/png/dflajsd.png"/>
          <p:cNvPicPr/>
          <p:nvPr/>
        </p:nvPicPr>
        <p:blipFill>
          <a:blip r:embed="rId1"/>
          <a:stretch/>
        </p:blipFill>
        <p:spPr>
          <a:xfrm>
            <a:off x="0" y="2590920"/>
            <a:ext cx="8077320" cy="42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www.ucalgary.ca/pip369/files/pip369/RA%20firing%20patterns.JPG"/>
          <p:cNvPicPr/>
          <p:nvPr/>
        </p:nvPicPr>
        <p:blipFill>
          <a:blip r:embed="rId2"/>
          <a:stretch/>
        </p:blipFill>
        <p:spPr>
          <a:xfrm>
            <a:off x="5181480" y="259092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24382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66"/>
                </a:solidFill>
                <a:latin typeface="Arial"/>
              </a:rPr>
              <a:t>Рефлек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8377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Већину активности ЦНС остварује кроз рефлекс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 представља брзу и невољну реакцију ефектора на дражење рецеп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Основна јединица интегрисане нервне активности је </a:t>
            </a:r>
            <a:r>
              <a:rPr b="1" lang="sr-CS" sz="1800" spc="-1" strike="noStrike" u="sng">
                <a:solidFill>
                  <a:srgbClr val="ffff00"/>
                </a:solidFill>
                <a:uFillTx/>
                <a:latin typeface="Arial"/>
              </a:rPr>
              <a:t>рефлексни л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ни лук се састоји од: рецептора, аферентног неурона, централне синапсе, еферентног неурона, ефекто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Рефлекси могу би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1. Физиолошки (увек су симетрични – исте јачин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2. Патоло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дела рефлекса према броју синапс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моносинапти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 полисинапти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стваривање рефлекса захтева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тет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рефлексног лу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Испитивање рефлекса има клинички значај!!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ензорни рецептори обезбеђују унос информација у нервни систем региструјући такве дражи као што су додир, звук, светлост, бол, хладноћа, топлота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Врсте рецептора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Механ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механичке деформације рецептора или ћелија уз рецептор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Терм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промене у температури (посебни за топлоту, посебни за хладноћу)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Ноцио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цептори за бол, региструју оштећење ткив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Електромагнетск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светлост на ретини ок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Хем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укус у устима, у носу мирис, у артеријској крви ниво кисеоника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429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66"/>
                </a:solidFill>
                <a:latin typeface="Arial"/>
              </a:rPr>
              <a:t>Различита осетљивост рецепто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хваљујући различитој осетљивости рецептори могу да разликују осећаје, тј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ж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аки од основних типова осећаја које доживљавамо (бол, додир, звук...) називамо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одалитетом осећај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но што нервно влакно преноси је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импул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ли како се свако влакно завршава у специфичној тачки онда ми то доживљавамо као неки од модалитета осећај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26732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ретварање сензорне дражи у нервни импул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ви сензорни рецептори имају једно заједничко својство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када одговарајући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тип дражи делује на рецептор, њен непосредни ефекат се састоји у промени вредности мембранског потенцијала рецептора – </a:t>
            </a:r>
            <a:r>
              <a:rPr b="1" lang="sr-CS" sz="2100" spc="-1" strike="noStrike" u="sng">
                <a:solidFill>
                  <a:srgbClr val="ffffff"/>
                </a:solidFill>
                <a:uFillTx/>
                <a:latin typeface="Arial"/>
              </a:rPr>
              <a:t>рецепторски потенцијал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ханизам рецепторских потенцијал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1. Механичка деформација рецептора која истеже мембрану и отвара јонске канал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2. Наношење хемијских супстанци на мембрану кој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такођ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отварају јонске канал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3. Промена температуре мембране ремети њену пропустљивост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4. Електромагнетни таласи мењају карактеристике мембран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ецепторски потенцијал Пачинијев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елаш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14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чинијево телашце (механорецептор) има централно нервно влакно које се пружа кроз његову срж, а окружено ј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шеструки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концентричним слојевим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ламелама)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мпресија споља на било ком месту телашца издужује, угиба или на неки други начин деформише централно влак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м врх централног влакна је немијелинизован, а влакно постаје мијелинизовано одмах након изласка из телашца и уласка у периферни сензорни нер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https://online.science.psu.edu/sites/default/files/bisc004/content/pacinian_corpuscle.jpg"/>
          <p:cNvPicPr/>
          <p:nvPr/>
        </p:nvPicPr>
        <p:blipFill>
          <a:blip r:embed="rId1"/>
          <a:stretch/>
        </p:blipFill>
        <p:spPr>
          <a:xfrm>
            <a:off x="1828800" y="3657600"/>
            <a:ext cx="5556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886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66"/>
                </a:solidFill>
                <a:latin typeface="Arial"/>
              </a:rPr>
              <a:t>Адаптација рецепто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89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ви сензорни рецептори имају специјалну карактеристику да се после извесног времена делимично или потпуно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даптирају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на драж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 који начи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да се примени континуирана сензорна драж, у почетку рецептори одговарају високом фреквенцијом импулса, затим прогресивно мањом фреквенцијом док на крају и не дају одгов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ензорни рецептори се адаптирају на дејство дражи истог интензитета за различито вре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чинијево телашц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адаптација до гашења унутар неколико стотинки секу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цептори корена дла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унутар једне секу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ротидни и аортни барорецепто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ко 2 дана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75960"/>
            <a:ext cx="56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Механизам адаптације рецеп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даптација рецептора је индивидуално својство сваког типа рецеп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ункција рецептора који се </a:t>
            </a:r>
            <a:r>
              <a:rPr b="0" lang="sr-CS" sz="2000" spc="-1" strike="noStrike" u="sng">
                <a:solidFill>
                  <a:srgbClr val="ffffff"/>
                </a:solidFill>
                <a:uFillTx/>
                <a:latin typeface="Arial"/>
              </a:rPr>
              <a:t>брзо адаптирају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на континуирано деловање дражи истог интензитета –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ФАЗИЧ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РЕЦЕПТОР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ример: адаптација Пачинијевог телашца се одвија на 2 нач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чинијево телашце је високоеластична структура тако да када на једну страну телашца нагло делује сила дисторзије, она се у моменту вискозном компонентом телашца преноси на исту страну сржи изазивајући рецепторски потенцијал. За неколико стотинки секунде настаје </a:t>
            </a:r>
            <a:r>
              <a:rPr b="0" lang="sr-CS" sz="2000" spc="-1" strike="noStrike" u="sng">
                <a:solidFill>
                  <a:srgbClr val="ffffff"/>
                </a:solidFill>
                <a:uFillTx/>
                <a:latin typeface="Arial"/>
              </a:rPr>
              <a:t>прерасподела  течности унутар телашца, тако да притисак постаје једнак у целом телашцу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; једнак притисак на целом нервном влакну у сржи не изазива даље рецепторски потенциј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33:53Z</dcterms:created>
  <dc:creator>Kaca</dc:creator>
  <dc:description/>
  <dc:language>en-US</dc:language>
  <cp:lastModifiedBy>Windows User</cp:lastModifiedBy>
  <dcterms:modified xsi:type="dcterms:W3CDTF">2021-11-25T11:39:36Z</dcterms:modified>
  <cp:revision>141</cp:revision>
  <dc:subject/>
  <dc:title>Медицински факултет у Крагујевцу</dc:title>
</cp:coreProperties>
</file>